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DF2E3-0FBD-4CBE-92DB-9BDFBFFB1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AC2A9-2EF2-44FC-AAF7-E5978F1B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80D9-E795-4300-B990-9C34D8E1E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41290-C997-4FFC-9F2C-8230B225B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A6E82-1111-4A9D-AF35-F1C5D138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E9D4F-87FB-45CB-BF81-902FEE409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4DD4-81E2-486D-9879-1B2AA084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7B98-99CD-4D54-905A-9C0026FB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F41C-3AD8-4546-9715-288B3E09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2F84-AAED-4EEB-92CC-1DFB28D4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36EB-6AC3-4E68-9476-1F1673B5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935A-42BA-42A6-B016-3B29B5228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7247-12F8-4D8D-B9FC-B16A118F3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64760" y="5424120"/>
            <a:ext cx="7790040" cy="101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ff"/>
                </a:solidFill>
                <a:uFillTx/>
                <a:latin typeface="Times New Roman"/>
              </a:rPr>
              <a:t>Rosh Hashanah</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873080" y="6643440"/>
            <a:ext cx="660888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85c6"/>
                </a:solidFill>
                <a:latin typeface="Times New Roman"/>
              </a:rPr>
              <a:t>Brecht,Lucas,Regina</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309680" y="487440"/>
            <a:ext cx="622764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What Is Rosh Hashanah?</a:t>
            </a:r>
            <a:endParaRPr b="0" lang="en-US" sz="4300" spc="-1" strike="noStrike">
              <a:solidFill>
                <a:srgbClr val="000000"/>
              </a:solidFill>
              <a:latin typeface="Times New Roman"/>
            </a:endParaRPr>
          </a:p>
        </p:txBody>
      </p:sp>
      <p:sp>
        <p:nvSpPr>
          <p:cNvPr id="45" name="PlaceHolder 2"/>
          <p:cNvSpPr>
            <a:spLocks noGrp="1"/>
          </p:cNvSpPr>
          <p:nvPr>
            <p:ph/>
          </p:nvPr>
        </p:nvSpPr>
        <p:spPr>
          <a:xfrm>
            <a:off x="44280" y="2539800"/>
            <a:ext cx="4424400" cy="5337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Rosh Hashanah is the start of the New Year.The begnning of Rosh Hashanah is at sundown at the end of the 29 of September.Rosh Hasanah commonly known as Jewish New Year.</a:t>
            </a:r>
            <a:endParaRPr b="0" lang="en-US" sz="2700" spc="-1" strike="noStrike">
              <a:solidFill>
                <a:srgbClr val="000000"/>
              </a:solidFill>
              <a:latin typeface="Times New Roman"/>
            </a:endParaRPr>
          </a:p>
        </p:txBody>
      </p:sp>
      <p:sp>
        <p:nvSpPr>
          <p:cNvPr id="46" name="PlaceHolder 3"/>
          <p:cNvSpPr>
            <a:spLocks noGrp="1"/>
          </p:cNvSpPr>
          <p:nvPr>
            <p:ph/>
          </p:nvPr>
        </p:nvSpPr>
        <p:spPr>
          <a:xfrm>
            <a:off x="4743360" y="1795320"/>
            <a:ext cx="5160960" cy="5726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47" name="Picture 5" descr=""/>
          <p:cNvPicPr/>
          <p:nvPr/>
        </p:nvPicPr>
        <p:blipFill>
          <a:blip r:embed="rId1"/>
          <a:stretch/>
        </p:blipFill>
        <p:spPr>
          <a:xfrm>
            <a:off x="5105520" y="2641680"/>
            <a:ext cx="3892320" cy="414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0280" y="317520"/>
            <a:ext cx="9669600" cy="923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Rosh Hashanah Celebration And Meaning</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osh Hashanah means the head or start of the New Year.Rosh Hasanah is celebrated by having a lot of food and sometimes fireworks.But when the Nazis came the food was limited and no more fireworks.</a:t>
            </a:r>
            <a:endParaRPr b="0" lang="en-US" sz="2700" spc="-1" strike="noStrike">
              <a:solidFill>
                <a:srgbClr val="000000"/>
              </a:solidFill>
              <a:latin typeface="Times New Roman"/>
            </a:endParaRPr>
          </a:p>
        </p:txBody>
      </p:sp>
      <p:sp>
        <p:nvSpPr>
          <p:cNvPr id="5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1" name="Picture 5" descr=""/>
          <p:cNvPicPr/>
          <p:nvPr/>
        </p:nvPicPr>
        <p:blipFill>
          <a:blip r:embed="rId1"/>
          <a:stretch/>
        </p:blipFill>
        <p:spPr>
          <a:xfrm>
            <a:off x="5384880" y="2438280"/>
            <a:ext cx="4095720" cy="31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Description Rosh Hashanah</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n the 7th month on the 1st of the month there shall be a sabbath for you,a rememberance which shofar blasts a holy convection. Also the  Jewish New Year is similar to the American  New Year because they use it to make resolutions.</a:t>
            </a:r>
            <a:endParaRPr b="0" lang="en-US" sz="2700" spc="-1" strike="noStrike">
              <a:solidFill>
                <a:srgbClr val="000000"/>
              </a:solidFill>
              <a:latin typeface="Times New Roman"/>
            </a:endParaRPr>
          </a:p>
        </p:txBody>
      </p:sp>
      <p:sp>
        <p:nvSpPr>
          <p:cNvPr id="5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5587920" y="2481120"/>
            <a:ext cx="3403800" cy="35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History Of Rosh Hasanah</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name Rosh Hasanah is not used in the bible to discuss this holiday.The bible refers to the holiday as Yom Zikkaron the day of rememberance or Yom Tetuah the of the sounding shofar.  Even though the theme of Rosh Hashanah is life and death it is a holiday filled with hope.</a:t>
            </a:r>
            <a:endParaRPr b="0" lang="en-US" sz="2700" spc="-1" strike="noStrike">
              <a:solidFill>
                <a:srgbClr val="000000"/>
              </a:solidFill>
              <a:latin typeface="Times New Roman"/>
            </a:endParaRPr>
          </a:p>
        </p:txBody>
      </p:sp>
      <p:sp>
        <p:nvSpPr>
          <p:cNvPr id="5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5587920" y="2743200"/>
            <a:ext cx="3859200" cy="44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5600" y="312840"/>
            <a:ext cx="9648720" cy="906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Rosh Hasanah Customs And Traditions </a:t>
            </a:r>
            <a:endParaRPr b="0" lang="en-US" sz="4300" spc="-1" strike="noStrike">
              <a:solidFill>
                <a:srgbClr val="000000"/>
              </a:solidFill>
              <a:latin typeface="Times New Roman"/>
            </a:endParaRPr>
          </a:p>
        </p:txBody>
      </p:sp>
      <p:sp>
        <p:nvSpPr>
          <p:cNvPr id="61"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osh Hashanahs mix of meaning Gods coordination world wide Judgement Day.  The jews jumble together for a sweet serious holiday whose customs mix the joy of Gods Rulership and the seriousness of passing Muslar and being decribed for a new year. </a:t>
            </a:r>
            <a:endParaRPr b="0" lang="en-US" sz="2700" spc="-1" strike="noStrike">
              <a:solidFill>
                <a:srgbClr val="000000"/>
              </a:solidFill>
              <a:latin typeface="Times New Roman"/>
            </a:endParaRPr>
          </a:p>
        </p:txBody>
      </p:sp>
      <p:sp>
        <p:nvSpPr>
          <p:cNvPr id="62"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63" name="Picture 5" descr=""/>
          <p:cNvPicPr/>
          <p:nvPr/>
        </p:nvPicPr>
        <p:blipFill>
          <a:blip r:embed="rId1"/>
          <a:stretch/>
        </p:blipFill>
        <p:spPr>
          <a:xfrm>
            <a:off x="5843520" y="2743200"/>
            <a:ext cx="3327480" cy="428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1359000" y="444600"/>
            <a:ext cx="8097840" cy="764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Where We Found Our Information</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e found it from wikipedia, mazor guide, and judiasm.com.</a:t>
            </a:r>
            <a:endParaRPr b="0" lang="en-US" sz="2700" spc="-1" strike="noStrike">
              <a:solidFill>
                <a:srgbClr val="000000"/>
              </a:solidFill>
              <a:latin typeface="Times New Roman"/>
            </a:endParaRPr>
          </a:p>
        </p:txBody>
      </p:sp>
      <p:pic>
        <p:nvPicPr>
          <p:cNvPr id="67" name="Picture 4" descr=""/>
          <p:cNvPicPr/>
          <p:nvPr/>
        </p:nvPicPr>
        <p:blipFill>
          <a:blip r:embed="rId1"/>
          <a:stretch/>
        </p:blipFill>
        <p:spPr>
          <a:xfrm>
            <a:off x="2689200" y="2759040"/>
            <a:ext cx="497700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5:10:56Z</dcterms:modified>
  <cp:revision>1</cp:revision>
  <dc:subject/>
  <dc:title>PowerPoint Presentation</dc:title>
</cp:coreProperties>
</file>